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DBD6-49FF-44DF-98DB-0E40C3DB5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145B-CD81-4E6B-9660-6759A1AA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759-37E5-4C51-A710-251F12568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6A7-A22A-4D2E-9EC6-69696DD6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06F-9B09-43E5-B384-B52C76603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692-70A8-447F-B0CE-3D705C07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C93-308E-4998-B871-E93FCDF9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7BD-6CA2-4F9E-90C4-5CCB7C3F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4779-8E2A-4F02-ABB1-F7033B5DE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FF9F-7E47-4AB6-89F8-66ED417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7649-4F95-417B-AC5B-B25620B4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835E-B556-4FF1-B6A4-229A6181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2BA5-84E9-4F9F-84B9-93D413AAB0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Escuel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¿Cuál es tu clase favori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¿Cuál es tu clase menos favori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entify people and things with Ser/ Describe people and things with Ser and Ad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8088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Cuál es tu clase favorita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 Cuál es tu clase menos favori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Cómo es tu clase favorita? ¿Cómo es tu clase menos favorit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Quién es el maestro/la maestra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304920" y="20685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e careful to make sure all articles, nouns, and adjectives agree in gender and number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Dónde está la clase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914400" y="3900600"/>
            <a:ext cx="3459240" cy="2590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4267080" y="1774800"/>
            <a:ext cx="2059200" cy="2222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3"/>
          <a:stretch/>
        </p:blipFill>
        <p:spPr>
          <a:xfrm>
            <a:off x="914400" y="17874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verb Hay: Say what there is(are) in the room and in the class in general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18960" y="2361960"/>
            <a:ext cx="6629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98989"/>
                </a:solidFill>
                <a:latin typeface="Calibri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1752480" y="2951280"/>
            <a:ext cx="5340600" cy="351288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1387080" y="2209680"/>
            <a:ext cx="32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¿Qué hay en la cla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29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me and Lo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8080" y="3767040"/>
            <a:ext cx="701064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¿A qué hora vas a  la cla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¿A qué hora termina la clas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133720" y="1068480"/>
            <a:ext cx="5029200" cy="26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press Obligation: Tener que + infinitiv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ienes que hacer para sacar una buena no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on qué frecuenci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2362320" y="4095720"/>
            <a:ext cx="3504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Cómo estás en la clase? ¿Por qué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Content Placeholder 3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286000" cy="1523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221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finite &amp; Indefinite Articles/ Regular AR Verbs/ Adverbs of frequen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Qué usas en la clase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¿Qué más necesita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752480" y="3368520"/>
            <a:ext cx="58327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é te gusta(n)? ¿Qué no te gusta(n)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27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2:29:14Z</dcterms:created>
  <dc:creator>SPS</dc:creator>
  <dc:description/>
  <dc:language>en-US</dc:language>
  <cp:lastModifiedBy>Nicole Fannoney</cp:lastModifiedBy>
  <cp:lastPrinted>2015-10-22T15:55:14Z</cp:lastPrinted>
  <dcterms:modified xsi:type="dcterms:W3CDTF">2015-10-26T18:09:59Z</dcterms:modified>
  <cp:revision>11</cp:revision>
  <dc:subject/>
  <dc:title>La Escuela</dc:title>
</cp:coreProperties>
</file>